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8F9D-0382-4675-AED5-8D43B4E4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B40-6E8A-4CD6-8803-1FC25715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8F9-A695-48DE-8B40-2AA56077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63B-4EDF-4406-B824-8987A2F0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D30D-9A72-4E9C-BA81-EF20CD7C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D09E-5B84-4F99-8107-2B6667B5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4747-1955-4362-A1F4-B89A9F8E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8CC-9F2F-483A-A8DF-2A30751C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993E-7BB0-4154-820B-2BBAC55D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A17-4DD2-41EA-8330-4AB020BB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92EE-58AE-4055-BD77-ECA70121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D0D-93D6-4BFB-B7FF-FD5C5DDB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FADC-B21A-4A7D-B5F6-5896070AA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4wp3m1vg06Q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160" y="57240"/>
            <a:ext cx="9105840" cy="6572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2209680"/>
            <a:ext cx="2895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4648320"/>
            <a:ext cx="6324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5029200"/>
            <a:ext cx="6172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ier 1 – Univer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(teacher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Stude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2819520"/>
            <a:ext cx="3505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ier 2 – Strateg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(teacher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Stude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9880" y="1447920"/>
            <a:ext cx="1676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ier 3 - Int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5840" y="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5335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yramid of Interven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14400"/>
            <a:ext cx="3352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(teacher)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% Stude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295280" y="7621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9:01:11Z</dcterms:created>
  <dc:creator>setup</dc:creator>
  <dc:description/>
  <dc:language>en-US</dc:language>
  <cp:lastModifiedBy>setup</cp:lastModifiedBy>
  <dcterms:modified xsi:type="dcterms:W3CDTF">2011-03-11T19:04:01Z</dcterms:modified>
  <cp:revision>2</cp:revision>
  <dc:subject/>
  <dc:title>Slide 1</dc:title>
</cp:coreProperties>
</file>